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BC0-9E6A-4F14-9E21-C9198CA4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AD1-92C4-478E-A140-0D26FF97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C12-D2CF-4D47-8788-518DF851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FCC-7C1D-448F-897C-D85CDFE0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23A8-6A79-4E62-9AB6-96B29D51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FEEF-747A-49B9-B1DD-FFAFD8E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4B74-4A90-4DE2-A945-946E76B0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B3F4-1C94-417F-B79B-C4CC312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D3EA-B669-422F-AC10-1BDE9595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3D2D-C67E-4F78-B4EA-4484BE5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76B4-305B-4321-A9F8-28B32FFD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A66-A217-4444-AF9A-ED14A842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A5A4-4F73-4AC3-A572-DB95451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3513-B735-451F-981E-956728B3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E6F1-7E87-42AA-874D-2D4F7A27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C79C-E343-4327-973F-2B46236B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FE9E-A692-46BE-B4B7-E2EE2865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BBC1-0F7D-4D88-B450-F895F697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017D-05D5-4C4F-85B6-D27C15DA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446A1-B802-45CC-BBA6-5B3F3F14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25F3-724D-4EF1-A1AC-BF9508CA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36D7-B1FC-49AD-9F7C-DB7691BF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B58-75C1-497C-8991-573957D6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1D52-08D6-453D-AFE1-B130177E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4549-C8B5-4FBB-87F7-F4AC14B1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956E-B74F-44C8-A5E0-A5D84880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D79D-8C3A-4F4A-B5AF-57614B50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28FF-CFE0-4841-A257-28105237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230F-2194-4AC8-A50C-A385692F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25170-FDD1-48BA-8F15-E361949A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DAF73-093F-4766-B5C9-547D1231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2254-7E6F-4837-B894-3C4A252C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7D62-F10B-4350-8154-09D69BEB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50B-841B-4822-8C2B-D7C0A37B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D233-D03D-4F60-B2B7-D5E2EF00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F9F8-4DBB-4852-9E79-E4917603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C33E8-A9AB-40E1-8517-9C027449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4FE1-4D76-4FCC-ADCB-F3D27CE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ABD1-2EF4-409B-9443-E4CEE8BE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A4E4-D235-44E2-B33F-9B5E4969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1D53-3234-4304-B6FA-996B4EC8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19BEE-58FB-4DA6-9F44-A935DC94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6229-54C5-475A-B0C8-D1E848B3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CB8F-210E-47B1-BDE9-C737E0A3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383-5B6B-42FA-B2D1-56EA2D62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4E069-9954-496A-A0D2-DB7093C8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DE315-A405-497F-8356-5DA57E5C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2F27-60F9-4A55-8411-0675CDF6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9C907-553C-4EE4-8C32-A25D8FCB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68790-CC86-4B63-96D4-5C7E26C4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C46C7-92F6-4EE9-96A8-A12D910B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ECDBD-8CB1-4A48-83D7-5CCAE6B6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57589-B6F3-4094-B0E0-D90A117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C017D-AFE9-453B-8815-FCFC7947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D3580-EEEF-486D-B8ED-BA1DF9AA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2DB-76E1-465C-9CBD-55D53191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90D3-5F46-4522-B2B3-70F2F80B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5D9E-9BF9-4B07-8F8B-71C1AF1F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5B230-1E2C-4412-8722-AC142227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EA6EB-F6E8-4559-B32C-BA68D830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B9599-00B5-4A38-A983-1A0BD3E0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326D2-A7B2-4A55-AFF6-84E22326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554A-A817-4B18-ADBA-3ECE4C45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6CED9-4572-4625-8630-526F3A8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A00D-6DCC-4981-B3C0-E0F0B8B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A083D-2A41-491A-8248-DA979C26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BB4-575E-4247-BF8C-F3BDAB8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096E6-9BFF-4610-99BD-EE31FB69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2CEFA-A75E-4732-B706-3317B8B1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C627B-E384-4D82-BF93-19CD2D25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ED674-5806-4652-BF33-FBCF9BF3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7CBF-3FC7-40E6-BD7D-E09E1F4D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5D212-26B8-4E14-B9A0-B3D68192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F86EC-A79B-4E6B-AEFB-3301844C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F4010-9DA7-4E8F-AAF1-4D87B497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4FE66-6E7F-4FCF-AB07-B53C6981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D5385-A23A-43AC-9065-729220AD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A53-CB62-4784-A375-1A4AD4F6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9B259-3C74-41E1-9C32-7766A20A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5D1B5-83CB-4449-92E0-4B11F9BE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46175-B1A3-4852-8038-1FFB773D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E0B4C-FF1D-42CF-9D68-E39A8B66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CFF5F-140D-40AA-8F00-15C52694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31B16-5C6E-49CD-A85F-848E3864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7D3A9-5425-4D1D-9B18-5764107B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7EEB8-1D1F-4C00-AA1F-3CC20B29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E374B-1BF8-43D1-AF08-DD7C29D1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4F235-2A66-40F0-8756-B8C4003A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28C-3851-4235-B8CE-CDFE85E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2642B-9ECA-4B39-8988-A65E776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E92B8-F146-429F-B449-2629D9F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0EEEC-0D39-4AAD-B37B-570C1C93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5ADFB-083A-4876-B2D9-2F9CDF7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53D3C-9192-47F5-9961-AFA192D3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FE924-36C5-4458-AC7D-4809AA7D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3AE1E-B9DC-47F8-92EB-13212A49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7885-69FC-4EAD-8C88-94FBBEF89702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EDD-BEB5-49A0-BA2B-3F9016A414E8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C5FE-A944-4B68-800C-58F1A052ABDD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ACE4-7B5D-42BF-BC57-7057BFADEA2C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9DE5-98FA-4E31-AECD-74827D31F8CD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047D-00CD-47EE-98A3-CDCB3AF4926C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B301-753E-4906-8ECF-65A60D8D60C6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2DBF-B2A7-476F-B266-A3716F26753D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GRID CONTROL SYSTEM USING GSM MODEM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lock Diagram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ower supply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dvantages: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ystem can be monitored and controlled from any whe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bile number can be changed at any tim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id status will not be lost in power failure condi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3520" y="914040"/>
            <a:ext cx="8153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copes for Advancemen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system is developed for mobile reporting application only. It also can be interfaced to computer system to record and process data bas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pplication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rocess Industries, Power Gri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ence by this project we can control power grid using wireless communication system i.e., Global system for mobile communications mode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33160" y="99036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wadays there are various electronic equipment available for remote operation of grid control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owever, the main disadvantage of these systems is that they can be operated only from short ranges and also less reli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90360"/>
            <a:ext cx="81532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 overcome the above drawbacks, we are using one of the wireless communication technique i.e., GSM (Global System for Mobile communications)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is a digital cellular communications system which has rapidly gained acceptance and market share worldwi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development of GSM is the first step towards a true personal communication system that will allow us to communication anywhere, anytime and with anyone. 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GSM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is vastly used because of its simplicity in both transmitter and receiver design, can operate at 900 or 1800MHZ band, faster , more reliable and globally network 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is designed for seven power grid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51 Microcontroller is the heart of the projec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SM modem is interfaced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modem receives the messages from control mobile and sends as input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685800"/>
            <a:ext cx="83059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microcontroller verify for authentication of the number and, if the number is authorized, grid control will be taken pla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d EEPROM is interfaced to this controller to save the grid position at every instan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grid position information will not be deleted even in power failure condition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520" y="83772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X4 keypad is interfaced to change the mobile number at any tim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6X2 LCD is interfaced to display user-required inform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n this project TRAIC is used as load controller (as a switch), MOC3021 used as a Triac driver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088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network operators have roaming facilities, user can often continue to use there mobile phones when they travel to other countries etc…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uses regulated 5v, 750mA power suppl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1404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7805 and 7812 three terminal voltage regulators are used for voltage regul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ridge type full wave rectifier is used to rectify the ac output of secondary of 230/12v step down transform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5:49:06Z</dcterms:created>
  <dc:creator/>
  <dc:description>Electrical Projects</dc:description>
  <dc:language>en-US</dc:language>
  <cp:lastModifiedBy>mahesh</cp:lastModifiedBy>
  <dcterms:modified xsi:type="dcterms:W3CDTF">2008-12-29T09:15:19Z</dcterms:modified>
  <cp:revision>0</cp:revision>
  <dc:subject>Electrical Projects</dc:subject>
  <dc:title>EEE IEEE Projects</dc:title>
</cp:coreProperties>
</file>